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29.png" ContentType="image/png"/>
  <Override PartName="/ppt/media/image14.wmf" ContentType="image/x-wmf"/>
  <Override PartName="/ppt/media/image11.png" ContentType="image/png"/>
  <Override PartName="/ppt/media/image15.wmf" ContentType="image/x-wmf"/>
  <Override PartName="/ppt/media/image7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wmf" ContentType="image/x-wmf"/>
  <Override PartName="/ppt/media/image30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A5B-69F8-4968-AFD6-7114DE14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D2D4-70E3-465F-8A75-1302E9F9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52E7-DB22-403D-B6AA-5CC8CC70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92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56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92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56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1823-94CA-44BA-9E5E-91D7826A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E037-71DD-42C8-97E7-FAE51E61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BA74-D050-4718-8B60-588233E1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CE51-7C08-4701-9D92-910BF2CE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55D5-B0CF-4858-B8B7-D5E0B1ED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2F27-6507-4FA3-B006-671EB577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342B-7241-492A-8852-FF8A52E0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A961-D2B5-4E12-968B-32F6DB04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F6D-549B-4EF6-95A4-84066569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81EB-DB0F-4CE3-A74E-DA2D2D3F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7DCA-8F62-4419-9478-ED279D78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1CC0-14AE-4563-8D70-AD5A7BF7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712A-C3C4-4B4E-9F25-8EE7A8C7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492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9856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128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5492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9856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26D1-C669-425F-84C5-39AFE590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3118-1828-45B8-A506-8D81E690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2102-A287-4356-9B0E-3B2E4D26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9A30-833B-4262-BECE-F040535E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8C8B-A69B-4B1F-BBAB-BC41A46F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6229-17EC-415B-8919-6D56B699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9536-B9B1-4F3B-BD61-E6B3FF47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8AF-135D-4A1A-B579-0687DF29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8584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44600" y="6276960"/>
            <a:ext cx="491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95120" y="6286680"/>
            <a:ext cx="125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D190-E1CC-4DC6-A25F-E6C0B7656304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5120" y="6286680"/>
            <a:ext cx="61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8044-A091-40D5-9E35-802F0A9A35A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850680"/>
            <a:ext cx="7678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ECA7-8E3B-4281-B15A-0468195715B7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0137-E7FA-40F1-9122-C6E1B397B1C8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4760" y="664380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0800" y="1865880"/>
            <a:ext cx="8615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Verdana"/>
              </a:rPr>
              <a:t>Probabilistic Robotics</a:t>
            </a:r>
            <a:endParaRPr b="1" lang="en-US" sz="4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952560" y="3243240"/>
            <a:ext cx="7380360" cy="33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Probabilistic Sensor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am-ba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an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nd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Beam-based Proximity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636120" y="1293840"/>
            <a:ext cx="3483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Random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0800" y="1293840"/>
            <a:ext cx="1713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Max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87480" y="4832280"/>
                <a:ext cx="26002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n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270400" y="4794120"/>
                <a:ext cx="26481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mal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0" name=""/>
          <p:cNvGrpSpPr/>
          <p:nvPr/>
        </p:nvGrpSpPr>
        <p:grpSpPr>
          <a:xfrm>
            <a:off x="4989600" y="1784520"/>
            <a:ext cx="3642480" cy="2589840"/>
            <a:chOff x="4989600" y="1784520"/>
            <a:chExt cx="3642480" cy="2589840"/>
          </a:xfrm>
        </p:grpSpPr>
        <p:sp>
          <p:nvSpPr>
            <p:cNvPr id="141" name=""/>
            <p:cNvSpPr/>
            <p:nvPr/>
          </p:nvSpPr>
          <p:spPr>
            <a:xfrm>
              <a:off x="6468480" y="3956040"/>
              <a:ext cx="52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Verdana"/>
                </a:rPr>
                <a:t>ex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53560" y="3968640"/>
              <a:ext cx="57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Verdana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30640" y="3968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4989600" y="1784520"/>
              <a:ext cx="3546360" cy="219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611280" y="1774800"/>
            <a:ext cx="3639600" cy="2599560"/>
            <a:chOff x="611280" y="1774800"/>
            <a:chExt cx="3639600" cy="2599560"/>
          </a:xfrm>
        </p:grpSpPr>
        <p:sp>
          <p:nvSpPr>
            <p:cNvPr id="146" name=""/>
            <p:cNvSpPr/>
            <p:nvPr/>
          </p:nvSpPr>
          <p:spPr>
            <a:xfrm>
              <a:off x="2048760" y="3956040"/>
              <a:ext cx="52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Verdana"/>
                </a:rPr>
                <a:t>ex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72360" y="3968640"/>
              <a:ext cx="57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Verdana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1280" y="3968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647640" y="1774800"/>
              <a:ext cx="3546360" cy="21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559B-C904-4FF4-82F2-00488DC257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Resulting Mixture Densit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419720" y="1787400"/>
                <a:ext cx="4549680" cy="18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hit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unexp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and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hit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z</m:t>
                              </m:r>
                              <m:r>
                                <m:t xml:space="preserve">|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m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nexp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z</m:t>
                              </m:r>
                              <m:r>
                                <m:t xml:space="preserve">|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m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z</m:t>
                              </m:r>
                              <m:r>
                                <m:t xml:space="preserve">|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m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and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z</m:t>
                              </m:r>
                              <m:r>
                                <m:t xml:space="preserve">|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m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4200" y="1730520"/>
            <a:ext cx="3983040" cy="20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840-B5AD-4EA5-A671-F370F60211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Algoritm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080" y="1362240"/>
            <a:ext cx="8999640" cy="41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296-2CC1-4BD6-9C00-8FA24AEDEC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Raw Sensor Dat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799160" y="2610000"/>
            <a:ext cx="3989160" cy="2754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66840" y="2610000"/>
            <a:ext cx="3989160" cy="2754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52040" y="1738440"/>
            <a:ext cx="7852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d distances for expected distance of 300 c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0080" y="5425920"/>
            <a:ext cx="1155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So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59480" y="5425920"/>
            <a:ext cx="1082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La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4720" y="1141560"/>
            <a:ext cx="5025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o determinar os parâme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B18E-1695-43F0-A72F-574E594A35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Approxima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ize log likelihood of the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arch space of n-1 paramet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ll climb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dient desc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istically compute the n-th parameter to satisfy normalization constrai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427560" y="1836720"/>
                <a:ext cx="18558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F7D-3BCB-4716-85F3-204C8210BE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Approxima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031840" y="1009800"/>
            <a:ext cx="5234040" cy="565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C171-6ABA-41E6-8822-52EC9834C7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478480" y="3679920"/>
            <a:ext cx="2860560" cy="2163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44400" y="3637080"/>
            <a:ext cx="3144960" cy="22222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Approximation Result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3805200" y="4346640"/>
            <a:ext cx="1155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So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43360" y="1946160"/>
            <a:ext cx="1082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La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03280" y="59626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00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61080" y="58482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00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400720" y="1351080"/>
            <a:ext cx="2771640" cy="2136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642960" y="1295280"/>
            <a:ext cx="2903400" cy="216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115-9BE8-4A84-AE75-0C0235E692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xampl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760" y="1851120"/>
            <a:ext cx="3179880" cy="3031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470400" y="1898640"/>
            <a:ext cx="5622840" cy="2857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582920" y="4968720"/>
            <a:ext cx="339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69640" y="4968720"/>
            <a:ext cx="1517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(z|x,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E715-C7AE-4FB5-8326-4ABCEB9A7E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ummary Beam-based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es independence between bea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stifica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confident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s physical causes for measu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ture of densities for these cau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es independence between causes. Problem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rn parameters based on real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models should be learned for different angles at which the sensor beam hits the obstac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expected distances by ray-trac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cted distances can be pre-proces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9381-FC65-427A-9B8B-5650F2DC0D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30120" y="3848040"/>
            <a:ext cx="8547120" cy="1346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can-based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am-based model is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smooth for small obstacles and at edg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very effic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Ide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Instead of following along the beam, just check the end poi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56B0-ED39-4505-B372-851A7E1F7C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ensors for Mobile Robot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Contact sensor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mp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Internal sens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lerometers (spring-mounted mass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yroscopes (spinning mass, laser ligh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sses, inclinometers (earth magnetic field, grav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Proximity sens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nar (time of fligh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(phase and frequenc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ser range-finders (time of fligh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red (intens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Visual sensor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me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Satellite-based sens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924-A6F1-42B9-82AC-795397F2EB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can-based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ability is a mixture of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Gaussian distribution with mean at </a:t>
            </a: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distance to closest obstacl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uniform distribution for random measurements, an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mall uniform distribution for max range measurem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ain, independence between different components is assum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8489-994C-424B-AFBC-2C24EE59B7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xampl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046840" y="119160"/>
            <a:ext cx="3071520" cy="3071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01560" y="1122480"/>
            <a:ext cx="3071880" cy="30715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430880" y="3637080"/>
            <a:ext cx="4049640" cy="25034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634480" y="5425920"/>
            <a:ext cx="1517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(z|x,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63040" y="4257720"/>
            <a:ext cx="132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p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94800" y="3152880"/>
            <a:ext cx="2712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kelihood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2C2-FC0B-487E-AC62-25B239FD40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4280" y="923760"/>
            <a:ext cx="9056880" cy="501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CCF-5B34-4208-AA92-0B534C31FE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an Jose Tech Museum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25280" y="1284120"/>
            <a:ext cx="4448160" cy="4114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027760" y="1282680"/>
            <a:ext cx="3954240" cy="4154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03520" y="5599080"/>
            <a:ext cx="3131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cupancy grid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66840" y="5611680"/>
            <a:ext cx="2360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kelihood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E05-BE5C-44CB-A5C6-A5A216E728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can Matching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ract likelihood field from scan and use it to match different sca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65240" y="2752560"/>
            <a:ext cx="2879640" cy="3154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178160" y="2567160"/>
            <a:ext cx="4800600" cy="35780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38560" y="4406760"/>
            <a:ext cx="787320" cy="0"/>
          </a:xfrm>
          <a:prstGeom prst="line">
            <a:avLst/>
          </a:prstGeom>
          <a:ln w="698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F708-B272-422E-AB10-CE2A5BC555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roperties of Scan-based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ghly efficient, uses 2D tables onl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mooth w.r.t. to small changes in robot posi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ws gradient descent, scan match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gnores physical properties of beam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1217-7F54-4390-8AA3-AF5F3814C8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46368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Additional Models of Proximity Sensors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Map matching (sonar,laser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generate small, local maps from sensor data and match local maps against global mod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Scan matching (laser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map is represented by scan endpoints, match scan into this ma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Features (sonar, laser, vision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Extract features such as doors, hallways from sensor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E152-A514-47F0-A947-7B48972677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Landmark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tive beacons 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e.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, radio, GP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ssive 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e.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, visual, retro-reflectiv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ndard approach is 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triangu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nsor provi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ance, 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aring, 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ance and be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6E01-49D2-4B91-970C-22442028A15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stance and Bearing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77760" y="1130400"/>
            <a:ext cx="7450200" cy="49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E3C5-860C-4E6C-8236-6BA7F50BD33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robabilistic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3760" y="1805040"/>
            <a:ext cx="9097920" cy="32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46C5-DC28-4702-A96F-740CD5BABB6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roximity Sensor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entral task is to determine </a:t>
            </a:r>
            <a:r>
              <a:rPr b="0" i="1" lang="en-US" sz="2400" spc="-1" strike="noStrike">
                <a:solidFill>
                  <a:srgbClr val="0033cc"/>
                </a:solidFill>
                <a:latin typeface="Verdana"/>
              </a:rPr>
              <a:t>P(z|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.e., the </a:t>
            </a: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probability of a measurement </a:t>
            </a:r>
            <a:r>
              <a:rPr b="0" i="1" lang="en-US" sz="2400" spc="-1" strike="noStrike">
                <a:solidFill>
                  <a:srgbClr val="0033cc"/>
                </a:solidFill>
                <a:latin typeface="Verdana"/>
              </a:rPr>
              <a:t>z</a:t>
            </a: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 given that the robot is at position </a:t>
            </a:r>
            <a:r>
              <a:rPr b="0" i="1" lang="en-US" sz="2400" spc="-1" strike="noStrike">
                <a:solidFill>
                  <a:srgbClr val="0033cc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Ques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Where do the probabilities come fro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Approac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Let’s try to explain a measure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080" y="1320840"/>
            <a:ext cx="2568600" cy="2574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63760" y="1333440"/>
            <a:ext cx="2556000" cy="254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197760" y="1295280"/>
            <a:ext cx="2616120" cy="261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C4B6-1285-4920-85C8-DAA433E5AA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robabilistic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9144000" cy="461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FAA-65A3-47E4-BB61-24E327A40A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robabilistic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9144000" cy="42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DD07-0C89-4E49-93E1-039D523E5CD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stribution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300640" y="108000"/>
            <a:ext cx="3238560" cy="200808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868320" y="2208240"/>
            <a:ext cx="3071880" cy="19065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300640" y="2208240"/>
            <a:ext cx="3071880" cy="19065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868320" y="4240080"/>
            <a:ext cx="3071880" cy="19065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5300640" y="4240080"/>
            <a:ext cx="3071880" cy="19065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E6E-63AB-4287-9194-1EA65163F01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ummary of Sensor Model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6800" y="1306080"/>
            <a:ext cx="85248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icitly modeling uncertainty in sensing is key to robust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6440" indent="-406440"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many cases, good models can be found by the following approach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342720">
              <a:spcBef>
                <a:spcPts val="451"/>
              </a:spcBef>
              <a:buClr>
                <a:srgbClr val="0033cc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e parametric model of noise free measure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342720">
              <a:spcBef>
                <a:spcPts val="451"/>
              </a:spcBef>
              <a:buClr>
                <a:srgbClr val="0033cc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alyze sources of noi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342720">
              <a:spcBef>
                <a:spcPts val="451"/>
              </a:spcBef>
              <a:buClr>
                <a:srgbClr val="0033cc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adequate noise to parameters (eventually mix in densities for noise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342720">
              <a:spcBef>
                <a:spcPts val="451"/>
              </a:spcBef>
              <a:buClr>
                <a:srgbClr val="0033cc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arn (and verify) parameters by fitting model to dat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342720">
              <a:spcBef>
                <a:spcPts val="451"/>
              </a:spcBef>
              <a:buClr>
                <a:srgbClr val="0033cc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kelihood of measurement is given by “probabilistically comparing” the actual with the expected measure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06440" indent="-406440"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holds for motion models as w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6440" indent="-406440"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extremely important to be aware of the underlying assumption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5FD2-DFAB-456B-8F99-64C5DA2FA6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Beam-based Sensor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an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ists of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ividual measurements are independent given the robot posi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895480" y="1984320"/>
                <a:ext cx="27511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17600" y="4179960"/>
                <a:ext cx="44118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8F1-F4AC-49FE-9BF5-FF4D056DA8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Beam-based Sensor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217600" y="4535640"/>
                <a:ext cx="441180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98" name=""/>
          <p:cNvGrpSpPr/>
          <p:nvPr/>
        </p:nvGrpSpPr>
        <p:grpSpPr>
          <a:xfrm>
            <a:off x="289080" y="1409760"/>
            <a:ext cx="8524800" cy="2616120"/>
            <a:chOff x="289080" y="1409760"/>
            <a:chExt cx="8524800" cy="261612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289080" y="1434960"/>
              <a:ext cx="2568600" cy="257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3263760" y="1447920"/>
              <a:ext cx="2556000" cy="2547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6197760" y="1409760"/>
              <a:ext cx="2616120" cy="261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09A-F1DD-4C66-A3BF-A6D0595C47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35360" y="1762200"/>
            <a:ext cx="3895920" cy="3870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14508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Typical Measurement Errors of an Range Measurement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301680" y="1873080"/>
            <a:ext cx="3693960" cy="36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ams reflected by obsta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ams reflected by persons / caused by crosst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ndom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imum range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352680" y="2286000"/>
            <a:ext cx="2984760" cy="876240"/>
            <a:chOff x="3352680" y="2286000"/>
            <a:chExt cx="2984760" cy="876240"/>
          </a:xfrm>
        </p:grpSpPr>
        <p:sp>
          <p:nvSpPr>
            <p:cNvPr id="106" name=""/>
            <p:cNvSpPr/>
            <p:nvPr/>
          </p:nvSpPr>
          <p:spPr>
            <a:xfrm>
              <a:off x="3378240" y="2311560"/>
              <a:ext cx="1765440" cy="7999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52680" y="2286000"/>
              <a:ext cx="2502000" cy="8762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52680" y="2286000"/>
              <a:ext cx="2984760" cy="825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32040" y="3174480"/>
            <a:ext cx="3619800" cy="241920"/>
            <a:chOff x="3632040" y="3174480"/>
            <a:chExt cx="3619800" cy="241920"/>
          </a:xfrm>
        </p:grpSpPr>
        <p:sp>
          <p:nvSpPr>
            <p:cNvPr id="110" name=""/>
            <p:cNvSpPr/>
            <p:nvPr/>
          </p:nvSpPr>
          <p:spPr>
            <a:xfrm flipV="1">
              <a:off x="3632040" y="3174480"/>
              <a:ext cx="3022920" cy="1018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45000" y="3289320"/>
              <a:ext cx="3606840" cy="1270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V="1">
            <a:off x="2793960" y="3797280"/>
            <a:ext cx="4508640" cy="3556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65640" y="4610160"/>
            <a:ext cx="4508280" cy="355680"/>
            <a:chOff x="3365640" y="4610160"/>
            <a:chExt cx="4508280" cy="355680"/>
          </a:xfrm>
        </p:grpSpPr>
        <p:sp>
          <p:nvSpPr>
            <p:cNvPr id="114" name=""/>
            <p:cNvSpPr/>
            <p:nvPr/>
          </p:nvSpPr>
          <p:spPr>
            <a:xfrm flipV="1">
              <a:off x="3365640" y="4610160"/>
              <a:ext cx="450828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390840" y="4660560"/>
              <a:ext cx="1727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3FD2-367A-4B9D-86D0-9198508AA4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roximity Measuremen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surement can be caused by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known obstac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oss-tal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unexpected obstacle (people, furniture, …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ssing all obstacles (total reflection, glass, …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ise is due to uncertainty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measuring distance to known obstac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position of known obstac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position of additional obstac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ther obstacle is mis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7A8-90E9-4F92-A247-FECC0161FC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roximity Measuremen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pos de erros modelado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quenos erros de medida (ruid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stáculos inesper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dida randôm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lha de detecção de qualquer objeto (medida máxi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16C-7084-4982-818D-EB6A78AFA8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Beam-based Proximity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853200" y="1293840"/>
            <a:ext cx="3039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Measuremen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11280" y="1809720"/>
            <a:ext cx="3639600" cy="2564640"/>
            <a:chOff x="611280" y="1809720"/>
            <a:chExt cx="3639600" cy="256464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620640" y="1809720"/>
              <a:ext cx="3505320" cy="21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048760" y="3956040"/>
              <a:ext cx="52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Verdana"/>
                </a:rPr>
                <a:t>ex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72360" y="3968640"/>
              <a:ext cx="57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Verdana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1280" y="3968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15880" y="4784760"/>
                <a:ext cx="3827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πσ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610160" y="4772160"/>
                <a:ext cx="4527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ex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η</m:t>
                              </m:r>
                              <m:r>
                                <m:t xml:space="preserve"> </m:t>
                              </m:r>
                              <m:r>
                                <m:t xml:space="preserve">λ</m:t>
                              </m:r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λz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z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916880" y="1293840"/>
            <a:ext cx="3323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Unexpected obsta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030640" y="1811160"/>
            <a:ext cx="3214800" cy="2601000"/>
            <a:chOff x="5030640" y="1811160"/>
            <a:chExt cx="3214800" cy="2601000"/>
          </a:xfrm>
        </p:grpSpPr>
        <p:sp>
          <p:nvSpPr>
            <p:cNvPr id="131" name=""/>
            <p:cNvSpPr/>
            <p:nvPr/>
          </p:nvSpPr>
          <p:spPr>
            <a:xfrm>
              <a:off x="6468480" y="3993840"/>
              <a:ext cx="52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Verdana"/>
                </a:rPr>
                <a:t>ex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34520" y="4006440"/>
              <a:ext cx="57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Verdana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30640" y="40064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114880" y="1811160"/>
              <a:ext cx="3130560" cy="214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9D34-8F64-45C4-AE99-B2DA70B04F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3T15:49:16Z</dcterms:created>
  <dc:creator>SCS</dc:creator>
  <dc:description/>
  <dc:language>en-US</dc:language>
  <cp:lastModifiedBy>-</cp:lastModifiedBy>
  <dcterms:modified xsi:type="dcterms:W3CDTF">2011-08-25T18:05:08Z</dcterms:modified>
  <cp:revision>1535</cp:revision>
  <dc:subject/>
  <dc:title>Probabilistic Robotics</dc:title>
</cp:coreProperties>
</file>